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C67-BE76-46CA-A1AA-D3147F56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57B-5609-4890-93DF-3DB7619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830-6CF6-46D8-B19B-D640870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0CD-FC80-4335-972B-49570DF6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1B9-CC04-405E-B2BE-15E1F0B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03A-2678-405D-8C1F-2075355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DCF-8651-4820-B045-7CC64BF4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CE2-C432-4668-AC40-C1CE928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7F0-498A-4FD8-9DD2-F77F530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C12-F784-468B-BC14-C06F96D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77C-972C-40DF-9161-37E12A3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699-7BDB-4DDA-A5D5-D0FDD92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832E-A857-49DC-A78B-47741B1FC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lissa Tam and Bridget Dur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rs must transport their goods another 200 miles to reach the nearest part of inland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two important ports called Kaliningrad and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iningrad is located on a small island in the Baltic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he only port that stays ice-free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ummer they have the choice of keeping their goods on the ships to travel 500 miles to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vel is the main transportation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5 Russia had 154,000km of railroads but 26% of them were elect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ffic dropped since the beginning of the Russian economic reform, making the economy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17T18:31:43Z</dcterms:modified>
  <cp:revision>4</cp:revision>
  <dc:subject/>
  <dc:title>Movement</dc:title>
</cp:coreProperties>
</file>